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2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416C-0E69-40BE-B0B6-AB274AD8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2798-6478-4A44-8A67-3250DFFE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DB0C-4278-4216-8AED-6045617F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94C-7E5E-4876-8818-C4AABADD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2C04-6F9F-4C91-A114-C405FF26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B816-687F-4F0B-B869-53CE1B69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202-7D4B-405B-A868-EE2FB966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86D-F1AE-4EC4-8A0C-794AF269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384-E0F8-4100-A956-3C64FC2F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91F-7870-4228-A0FD-1E3E602D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EAA-2321-4E5C-87E9-02CE465F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051-8BE5-4236-A3AA-FDFD4125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907B-F3D0-477E-98CD-603CDBF0C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s and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vasive species can cause the extinction of native speci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5334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 humans an invasive spec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rhino"/>
          <p:cNvPicPr/>
          <p:nvPr/>
        </p:nvPicPr>
        <p:blipFill>
          <a:blip r:embed="rId1"/>
          <a:stretch/>
        </p:blipFill>
        <p:spPr>
          <a:xfrm>
            <a:off x="2971800" y="1600200"/>
            <a:ext cx="295272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affects population siz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90720" y="1371600"/>
            <a:ext cx="2590560" cy="2971800"/>
            <a:chOff x="990720" y="1371600"/>
            <a:chExt cx="2590560" cy="29718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990720" y="1371600"/>
              <a:ext cx="2590560" cy="22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279440" y="3733920"/>
              <a:ext cx="1638360" cy="609480"/>
            </a:xfrm>
            <a:prstGeom prst="borderCallout1">
              <a:avLst>
                <a:gd name="adj1" fmla="val 22605"/>
                <a:gd name="adj2" fmla="val -1575"/>
                <a:gd name="adj3" fmla="val 22605"/>
                <a:gd name="adj4" fmla="val 1755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o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34120" y="1371600"/>
            <a:ext cx="2895480" cy="2895480"/>
            <a:chOff x="5334120" y="1371600"/>
            <a:chExt cx="2895480" cy="289548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34120" y="1371600"/>
              <a:ext cx="2895480" cy="21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562720" y="3635280"/>
              <a:ext cx="2361960" cy="631800"/>
            </a:xfrm>
            <a:prstGeom prst="borderCallout1">
              <a:avLst>
                <a:gd name="adj1" fmla="val -595"/>
                <a:gd name="adj2" fmla="val -2605"/>
                <a:gd name="adj3" fmla="val 20555"/>
                <a:gd name="adj4" fmla="val -260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elte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200400" y="4495680"/>
            <a:ext cx="5448240" cy="2043360"/>
            <a:chOff x="3200400" y="4495680"/>
            <a:chExt cx="5448240" cy="20433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3200400" y="4495680"/>
              <a:ext cx="2971800" cy="20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286680" y="5246640"/>
              <a:ext cx="2361960" cy="631800"/>
            </a:xfrm>
            <a:prstGeom prst="borderCallout1">
              <a:avLst>
                <a:gd name="adj1" fmla="val -2627"/>
                <a:gd name="adj2" fmla="val -2605"/>
                <a:gd name="adj3" fmla="val 20555"/>
                <a:gd name="adj4" fmla="val -260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te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f resources were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nlimited,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opulations could increase exponentially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90720" y="2181240"/>
          <a:ext cx="7010280" cy="46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81240"/>
                    <a:ext cx="701028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nce resources are limited, population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abiliz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35200" y="1749600"/>
          <a:ext cx="7157880" cy="47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1749600"/>
                    <a:ext cx="7157880" cy="47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ents like a drought, famine, or epidemic can disrupt a stable popul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553080" y="2819520"/>
            <a:ext cx="225108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57200" y="1905120"/>
          <a:ext cx="563868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05120"/>
                    <a:ext cx="56386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541008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etitio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– by native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invasive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Purple loosestrife is just one of many invasive species affecting ecosystems in Wisconsin."/>
          <p:cNvPicPr/>
          <p:nvPr/>
        </p:nvPicPr>
        <p:blipFill>
          <a:blip r:embed="rId1"/>
          <a:stretch/>
        </p:blipFill>
        <p:spPr>
          <a:xfrm>
            <a:off x="4952880" y="1600200"/>
            <a:ext cx="249408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2405160" cy="3543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0492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pulation size is also affected by another fact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rple loosestrife is an invasive plant species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Purple loosestrife is just one of many invasive species affecting ecosystems in Wisconsin."/>
          <p:cNvPicPr/>
          <p:nvPr/>
        </p:nvPicPr>
        <p:blipFill>
          <a:blip r:embed="rId1"/>
          <a:stretch/>
        </p:blipFill>
        <p:spPr>
          <a:xfrm>
            <a:off x="4952880" y="1600200"/>
            <a:ext cx="249408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2405160" cy="3543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518148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t competes with native species in wetlands – and usually wi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ebra mussels came to the US from Russia by shi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closeup of zebra mussels on stick"/>
          <p:cNvPicPr/>
          <p:nvPr/>
        </p:nvPicPr>
        <p:blipFill>
          <a:blip r:embed="rId1"/>
          <a:stretch/>
        </p:blipFill>
        <p:spPr>
          <a:xfrm>
            <a:off x="1438200" y="1752480"/>
            <a:ext cx="2908440" cy="4648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crayfish covered with zebra mussels"/>
          <p:cNvPicPr/>
          <p:nvPr/>
        </p:nvPicPr>
        <p:blipFill>
          <a:blip r:embed="rId2"/>
          <a:stretch/>
        </p:blipFill>
        <p:spPr>
          <a:xfrm>
            <a:off x="5181480" y="1752480"/>
            <a:ext cx="2865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attach to almost anything and eat all the small organis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closeup of zebra mussels on stick"/>
          <p:cNvPicPr/>
          <p:nvPr/>
        </p:nvPicPr>
        <p:blipFill>
          <a:blip r:embed="rId1"/>
          <a:stretch/>
        </p:blipFill>
        <p:spPr>
          <a:xfrm>
            <a:off x="1438200" y="1752480"/>
            <a:ext cx="290844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crayfish covered with zebra mussels"/>
          <p:cNvPicPr/>
          <p:nvPr/>
        </p:nvPicPr>
        <p:blipFill>
          <a:blip r:embed="rId2"/>
          <a:stretch/>
        </p:blipFill>
        <p:spPr>
          <a:xfrm>
            <a:off x="5181480" y="1752480"/>
            <a:ext cx="2865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2:14:22Z</dcterms:created>
  <dc:creator>Administrator</dc:creator>
  <dc:description/>
  <dc:language>en-US</dc:language>
  <cp:lastModifiedBy>Administrator</cp:lastModifiedBy>
  <dcterms:modified xsi:type="dcterms:W3CDTF">2008-09-23T12:14:53Z</dcterms:modified>
  <cp:revision>1</cp:revision>
  <dc:subject/>
  <dc:title>Populations and Competition</dc:title>
</cp:coreProperties>
</file>